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00C-468D-42C7-B983-04068706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F52-DDA3-4711-95A8-B133F567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2AB-22F4-415E-BFA6-B046E5D1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DA4-26FC-46E7-8D7F-18E499EA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CAAB-5589-4F26-9B7C-6B30FFF7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C633-C33E-4FCA-809B-6BA0B39C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3F4A-D342-407D-BDD6-3995E3DC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ABAA-361A-4027-875F-C7F003EB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1E98-5625-4848-8C71-8010AC1A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453E-19DB-45F8-8679-56E2CB9E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4062-A9B6-4564-A15B-4A6C0DF5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2EE-FADB-4A4D-9B38-F0A6D4E9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951E-5216-4FF2-A256-CB552240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7ABA-BF15-4A4F-BD42-2F69138E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316C-9653-48E1-8495-A91C9140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4510-8FF4-41F4-895F-31F5DB54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B86F-27D0-41D8-97CD-739C148D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C58-A147-4D0A-9E44-D47BE294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9FA-A3FE-4FB6-9436-13AF4B06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BF59-8A53-4540-BEE8-39D16F06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892-2CCC-4545-B3E4-DA8DDC24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A28-D785-4702-868B-B2C65B6D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F21-D6EA-4B32-B1D4-5CFA8A16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4C1-693C-425C-A4B2-FED2A348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7983-0DD2-49EE-B235-222BC08D3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2CF4-6248-490E-8467-08956023B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66"/>
                </a:solidFill>
                <a:latin typeface="Arial Black"/>
              </a:rPr>
              <a:t>EMISSIONS REDUCTION USING HYDROGEN</a:t>
            </a:r>
            <a:br>
              <a:rPr sz="3700"/>
            </a:br>
            <a:r>
              <a:rPr b="1" lang="en-US" sz="3700" spc="-1" strike="noStrike">
                <a:solidFill>
                  <a:srgbClr val="336666"/>
                </a:solidFill>
                <a:latin typeface="Arial Black"/>
              </a:rPr>
              <a:t>  FROM PLASMATRON FUEL CONVERTERS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89" name="TextBox 2" descr=""/>
          <p:cNvPicPr/>
          <p:nvPr/>
        </p:nvPicPr>
        <p:blipFill>
          <a:blip r:embed="rId1"/>
          <a:stretch/>
        </p:blipFill>
        <p:spPr>
          <a:xfrm>
            <a:off x="1322280" y="3371760"/>
            <a:ext cx="6242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ORK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atron fuel converters provide electrical discharge in flowing gases of hydrocarbon fuels and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generation of reactive species in the following gases along with the increased mixing accelerates reformation of hydrocarbon fuels into hydrogen rich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ay also be utilised for increase in gas stream enthalpy,futher accelerating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ORKING(contd…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ost provided by the plasma can facilitate partial oxidation reactions with negligible soot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ideal stoichiometric conditions the partial oxidation reaction 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Hm + n/2 O2           nCO +m/2 H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othermic re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provides continuos ignition at the entrance of the fuel and helps in the gasification of fu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657600" y="44956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4343400" y="3809880"/>
            <a:ext cx="668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657600" cy="3666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29052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DVANTAG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he potential to increase gasoline engine efficiency by 20 to 2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ld potentially reduce U.S. oil imports by 1.5 million barrels p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reduce diesel engine exhaust emissions by 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modest engine modifications,but no major redesign of the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reason behind introducing this type of advancements is that it is our responsibility to protect our environment from emission haza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TextBox 3" descr=""/>
          <p:cNvPicPr/>
          <p:nvPr/>
        </p:nvPicPr>
        <p:blipFill>
          <a:blip r:embed="rId1"/>
          <a:stretch/>
        </p:blipFill>
        <p:spPr>
          <a:xfrm>
            <a:off x="1170000" y="4133880"/>
            <a:ext cx="6242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           </a:t>
            </a:r>
            <a:br>
              <a:rPr sz="3200"/>
            </a:b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               </a:t>
            </a:r>
            <a:br>
              <a:rPr sz="3200"/>
            </a:b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             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        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CONTENTS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UT PLASMA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</a:t>
            </a: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-a-days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llu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s become a major threat to the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hicular exhaust(NOx,CO,HC etc…) are mainly responsible for the pol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SMATRON fuel converter technology is the new technique introduced in this field to reduce the concentration levels of emi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ABOUT PLASMATRON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ineers have long known that adding hydrogen to gasoline makes an engine run cleaner and more effici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mid-1990s, scientists at the Massachusetts Institute of Technology (MIT) began looking at plasma technology as a possible solution to this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itable for both fu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treat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for exha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fter-treat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  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SCHEMATIC FIGURE OF                                        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PLASMATRON FUEL CONVERTER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7" name="Picture 4" descr="plas__carb"/>
          <p:cNvPicPr/>
          <p:nvPr/>
        </p:nvPicPr>
        <p:blipFill>
          <a:blip r:embed="rId1"/>
          <a:stretch/>
        </p:blipFill>
        <p:spPr>
          <a:xfrm>
            <a:off x="1600200" y="2057400"/>
            <a:ext cx="61722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YP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Emission control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Fuel pre-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Exhaust after-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Plasmatron fuel conve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Thermal ty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 Low curr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LOW ENGINE EMISSION CONCEPT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2590920"/>
            <a:ext cx="17524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429000" y="2590920"/>
            <a:ext cx="17524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019920" y="2590920"/>
            <a:ext cx="17524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3048120" y="25146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563868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143000" y="2743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uel 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657600" y="2666880"/>
            <a:ext cx="129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nboard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lasmatronFuel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onve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095880" y="28954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ltra lean Burn Gasoline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1600200" y="182880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Gaso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e.g. 25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267080" y="1981080"/>
            <a:ext cx="289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Hydrogen-rich gas (H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+C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7924680" y="2971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8288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7"/>
          <p:cNvSpPr/>
          <p:nvPr/>
        </p:nvSpPr>
        <p:spPr>
          <a:xfrm>
            <a:off x="1828800" y="48006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 flipV="1">
            <a:off x="693432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 flipV="1">
            <a:off x="3200400" y="4952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V="1">
            <a:off x="8153280" y="3124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6477120" y="5562720"/>
            <a:ext cx="26668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Reduced pollutants (N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ncreased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676520" y="571500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Gaso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e.g. 75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328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H2-Assisted NOx Trap: Test Set-up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332240" y="3873600"/>
            <a:ext cx="1152720" cy="347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x Tra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1496880" y="4778280"/>
            <a:ext cx="1301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2948040" y="4038480"/>
            <a:ext cx="0" cy="133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750960" y="4605480"/>
            <a:ext cx="81288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6200640" y="4057560"/>
            <a:ext cx="6080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6210360" y="5348160"/>
            <a:ext cx="5889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6804000" y="4778280"/>
            <a:ext cx="895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454120" y="3467160"/>
            <a:ext cx="117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or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3613320" y="3274920"/>
            <a:ext cx="0" cy="150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899400" y="4414680"/>
            <a:ext cx="12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Tailpi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4332240" y="5173560"/>
            <a:ext cx="1152720" cy="347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x Trap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97520" y="4062240"/>
            <a:ext cx="1800" cy="1290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5"/>
          <p:cNvGrpSpPr/>
          <p:nvPr/>
        </p:nvGrpSpPr>
        <p:grpSpPr>
          <a:xfrm>
            <a:off x="2798640" y="4605480"/>
            <a:ext cx="244080" cy="347040"/>
            <a:chOff x="2798640" y="4605480"/>
            <a:chExt cx="244080" cy="347040"/>
          </a:xfrm>
        </p:grpSpPr>
        <p:sp>
          <p:nvSpPr>
            <p:cNvPr id="135" name="AutoShape 16"/>
            <p:cNvSpPr/>
            <p:nvPr/>
          </p:nvSpPr>
          <p:spPr>
            <a:xfrm>
              <a:off x="2880000" y="4779000"/>
              <a:ext cx="162720" cy="17352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spcBef>
                  <a:spcPts val="774"/>
                </a:spcBef>
                <a:buClr>
                  <a:srgbClr val="cccc99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7"/>
            <p:cNvSpPr/>
            <p:nvPr/>
          </p:nvSpPr>
          <p:spPr>
            <a:xfrm rot="10800000">
              <a:off x="2880000" y="4605480"/>
              <a:ext cx="162720" cy="17352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spcBef>
                  <a:spcPts val="774"/>
                </a:spcBef>
                <a:buClr>
                  <a:srgbClr val="cccc99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8"/>
            <p:cNvSpPr/>
            <p:nvPr/>
          </p:nvSpPr>
          <p:spPr>
            <a:xfrm rot="5400000">
              <a:off x="2792880" y="4697280"/>
              <a:ext cx="173880" cy="16272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spcBef>
                  <a:spcPts val="774"/>
                </a:spcBef>
                <a:buClr>
                  <a:srgbClr val="cccc99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9"/>
          <p:cNvSpPr/>
          <p:nvPr/>
        </p:nvSpPr>
        <p:spPr>
          <a:xfrm flipH="1">
            <a:off x="2962440" y="4778280"/>
            <a:ext cx="650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0"/>
          <p:cNvSpPr/>
          <p:nvPr/>
        </p:nvSpPr>
        <p:spPr>
          <a:xfrm>
            <a:off x="2881440" y="4692600"/>
            <a:ext cx="161640" cy="173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948040" y="4038480"/>
            <a:ext cx="13842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2948040" y="5375160"/>
            <a:ext cx="13842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1076400" y="5772240"/>
            <a:ext cx="22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tching Val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4"/>
          <p:cNvSpPr/>
          <p:nvPr/>
        </p:nvSpPr>
        <p:spPr>
          <a:xfrm flipV="1">
            <a:off x="2135160" y="4992480"/>
            <a:ext cx="650880" cy="7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2984400" y="2712960"/>
            <a:ext cx="1166760" cy="5558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or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1851120" y="2963880"/>
            <a:ext cx="67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1841400" y="266544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3595680" y="2300400"/>
            <a:ext cx="0" cy="411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9"/>
          <p:cNvSpPr/>
          <p:nvPr/>
        </p:nvSpPr>
        <p:spPr>
          <a:xfrm>
            <a:off x="2400480" y="281952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0"/>
          <p:cNvSpPr/>
          <p:nvPr/>
        </p:nvSpPr>
        <p:spPr>
          <a:xfrm flipV="1">
            <a:off x="2414520" y="3117960"/>
            <a:ext cx="568440" cy="14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238560" y="1979640"/>
            <a:ext cx="85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2"/>
          <p:cNvSpPr/>
          <p:nvPr/>
        </p:nvSpPr>
        <p:spPr>
          <a:xfrm>
            <a:off x="7149960" y="46864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3"/>
          <p:cNvSpPr/>
          <p:nvPr/>
        </p:nvSpPr>
        <p:spPr>
          <a:xfrm>
            <a:off x="3873600" y="3962520"/>
            <a:ext cx="152280" cy="1522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4"/>
          <p:cNvSpPr/>
          <p:nvPr/>
        </p:nvSpPr>
        <p:spPr>
          <a:xfrm>
            <a:off x="3886200" y="5283360"/>
            <a:ext cx="152280" cy="1522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5"/>
          <p:cNvSpPr/>
          <p:nvPr/>
        </p:nvSpPr>
        <p:spPr>
          <a:xfrm>
            <a:off x="2019240" y="46864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6141960" y="3971880"/>
            <a:ext cx="284400" cy="16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H="1">
            <a:off x="6243480" y="4005360"/>
            <a:ext cx="76320" cy="1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8"/>
          <p:cNvSpPr/>
          <p:nvPr/>
        </p:nvSpPr>
        <p:spPr>
          <a:xfrm>
            <a:off x="5486400" y="4048200"/>
            <a:ext cx="652320" cy="0"/>
          </a:xfrm>
          <a:prstGeom prst="line">
            <a:avLst/>
          </a:prstGeom>
          <a:ln w="25560">
            <a:solidFill>
              <a:srgbClr val="d6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5477040" y="5343480"/>
            <a:ext cx="645840" cy="3240"/>
          </a:xfrm>
          <a:prstGeom prst="line">
            <a:avLst/>
          </a:prstGeom>
          <a:ln w="25560">
            <a:solidFill>
              <a:srgbClr val="d6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40"/>
          <p:cNvSpPr/>
          <p:nvPr/>
        </p:nvSpPr>
        <p:spPr>
          <a:xfrm>
            <a:off x="5729400" y="396864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1"/>
          <p:cNvSpPr/>
          <p:nvPr/>
        </p:nvSpPr>
        <p:spPr>
          <a:xfrm>
            <a:off x="6126120" y="5270400"/>
            <a:ext cx="284040" cy="16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 flipH="1">
            <a:off x="6227640" y="5303880"/>
            <a:ext cx="76320" cy="1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3"/>
          <p:cNvSpPr/>
          <p:nvPr/>
        </p:nvSpPr>
        <p:spPr>
          <a:xfrm>
            <a:off x="5713560" y="526716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4839480" y="455760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ke 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5"/>
          <p:cNvSpPr/>
          <p:nvPr/>
        </p:nvSpPr>
        <p:spPr>
          <a:xfrm flipV="1">
            <a:off x="5911920" y="4228920"/>
            <a:ext cx="390600" cy="40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6"/>
          <p:cNvSpPr/>
          <p:nvPr/>
        </p:nvSpPr>
        <p:spPr>
          <a:xfrm>
            <a:off x="5924520" y="4734000"/>
            <a:ext cx="276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371600" y="609480"/>
            <a:ext cx="73152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iesel Engine Emissions Aftertreatment     </a:t>
            </a:r>
            <a:br>
              <a:rPr sz="2400"/>
            </a:b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                         Concept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114800" y="3429000"/>
            <a:ext cx="178452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sm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5943600" y="3503520"/>
            <a:ext cx="668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676520" y="3429000"/>
            <a:ext cx="11142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aly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2209680" y="2895480"/>
            <a:ext cx="1800" cy="49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91440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haust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gine (Oxygen ric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286000" y="4572000"/>
            <a:ext cx="144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381720" y="202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600200" y="52578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exha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6629400" y="2970360"/>
            <a:ext cx="111456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aly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914400" y="129528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rma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876920" y="12952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7238880" y="396072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6553080" y="45086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exha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609480" y="1905120"/>
            <a:ext cx="304812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4038480" y="1828800"/>
            <a:ext cx="431172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86000" y="28954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800600" y="2895480"/>
            <a:ext cx="144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4267080" y="18288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eam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esel 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 flipH="1">
            <a:off x="6172200" y="2514600"/>
            <a:ext cx="533520" cy="80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6782760" y="198108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h 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609480" y="5180040"/>
            <a:ext cx="7772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3:47:47Z</dcterms:created>
  <dc:creator>Mechanical Engineering Project</dc:creator>
  <dc:description/>
  <dc:language>en-US</dc:language>
  <cp:lastModifiedBy>Brigade</cp:lastModifiedBy>
  <dcterms:modified xsi:type="dcterms:W3CDTF">2011-12-10T17:20:54Z</dcterms:modified>
  <cp:revision>1</cp:revision>
  <dc:subject/>
  <dc:title>Mechanical Engineering Project</dc:title>
</cp:coreProperties>
</file>